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ct" ContentType="image/x-pict"/>
  <Override PartName="/ppt/media/image11.png" ContentType="image/png"/>
  <Override PartName="/ppt/media/image19.jpeg" ContentType="image/jpeg"/>
  <Override PartName="/ppt/media/image13.png" ContentType="image/png"/>
  <Override PartName="/ppt/media/image12.jpeg" ContentType="image/jpeg"/>
  <Override PartName="/ppt/media/image8.png" ContentType="image/png"/>
  <Override PartName="/ppt/media/image21.jpeg" ContentType="image/jpeg"/>
  <Override PartName="/ppt/media/image16.png" ContentType="image/png"/>
  <Override PartName="/ppt/media/image20.jpeg" ContentType="image/jpeg"/>
  <Override PartName="/ppt/media/image17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7.png" ContentType="image/png"/>
  <Override PartName="/ppt/media/image1.jpeg" ContentType="image/jpeg"/>
  <Override PartName="/ppt/media/image18.pct" ContentType="image/x-pict"/>
  <Override PartName="/ppt/media/image15.png" ContentType="image/png"/>
  <Override PartName="/ppt/media/image3.jpeg" ContentType="image/jpeg"/>
  <Override PartName="/ppt/media/image4.png" ContentType="image/png"/>
  <Override PartName="/ppt/media/image6.png" ContentType="image/pn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BB2CB-9DDD-4E1A-88B6-9A70048564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phipathic = thin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hospholipid bilay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te other molecules in membrane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me C skeleton, different functional group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de of same elements as carbohydrates but very different structure/ proportions &amp; therefore very different biological proper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040" y="4343400"/>
            <a:ext cx="5334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ok at structure… What makes them hydrophobic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te functional group = carboxy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IG FAT molecule!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ulling the water out to free up the bo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happens when you add oil to wa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y is there a lot of energy stored in fat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ig molecu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ts of bonds of stored energ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 why are we attracted to eating fa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nk about our ancestors on the Serengeti Plain &amp; during the Ice Age. Was eating fat an advantag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stly animal fa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410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stly plant lipi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nk about “natural” peanut butter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ts of unsaturated fats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il separates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nies want to make their product easier to us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op the oil from separating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Keep oil solid at room tem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ydrogenate it = chemically alter to saturate 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 nutrition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4299F4-469F-4A4F-97D4-672D3365A2C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9E6BFE-8B1B-4810-B362-DF8BB00AC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1B1405-1BF8-46BC-944C-BF7F23B5B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5468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31900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99072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5468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31900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41BD48-5EFF-495E-BCC0-81659F35302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90720" y="1981080"/>
            <a:ext cx="7238880" cy="42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413629-6B2D-4560-B301-1B0AC4683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15468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31900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9072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15468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531900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D6AFF1-491F-4B84-B5FA-12F82EC33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4C2971-4EA2-49E9-B25D-3CFCA383F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E572AB-2D91-4922-9EF2-1CF4398A8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990720" y="1981080"/>
            <a:ext cx="7238880" cy="42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525845-BA20-4858-95F7-3BD96D531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F02BA1-8040-41B2-A54A-0A81DD5FA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4873DD-FAF2-4CB7-8D6C-A1E02C002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4481DE-AAB1-4BF3-AC17-BEA8AE4CD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62160" y="6492600"/>
            <a:ext cx="533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40458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17563-786B-4A05-9429-25E8EE4F2305}" type="slidenum">
              <a:rPr b="1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80880" y="1219320"/>
            <a:ext cx="6324840" cy="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609480" y="914400"/>
            <a:ext cx="0" cy="259092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533520" y="1143000"/>
            <a:ext cx="152280" cy="152280"/>
          </a:xfrm>
          <a:prstGeom prst="ellipse">
            <a:avLst/>
          </a:prstGeom>
          <a:noFill/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f116a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"/>
            <a:ext cx="9144000" cy="76320"/>
          </a:xfrm>
          <a:prstGeom prst="rect">
            <a:avLst/>
          </a:pr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dt" idx="2"/>
          </p:nvPr>
        </p:nvSpPr>
        <p:spPr>
          <a:xfrm>
            <a:off x="6933960" y="626436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40458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Times New Roman"/>
              </a:rPr>
              <a:t>2005-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228600" y="638460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</a:rPr>
              <a:t>AP Biology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3"/>
          </p:nvPr>
        </p:nvSpPr>
        <p:spPr>
          <a:xfrm>
            <a:off x="6933960" y="626436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40458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Times New Roman"/>
              </a:rPr>
              <a:t>2005-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f116a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28600"/>
            <a:ext cx="9144000" cy="76320"/>
          </a:xfrm>
          <a:prstGeom prst="rect">
            <a:avLst/>
          </a:pr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380880" y="1523880"/>
            <a:ext cx="6324840" cy="2590920"/>
            <a:chOff x="380880" y="1523880"/>
            <a:chExt cx="6324840" cy="2590920"/>
          </a:xfrm>
        </p:grpSpPr>
        <p:sp>
          <p:nvSpPr>
            <p:cNvPr id="52" name=""/>
            <p:cNvSpPr/>
            <p:nvPr/>
          </p:nvSpPr>
          <p:spPr>
            <a:xfrm>
              <a:off x="380880" y="1828800"/>
              <a:ext cx="6324840" cy="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480" y="1523880"/>
              <a:ext cx="0" cy="259092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33520" y="1752480"/>
              <a:ext cx="152280" cy="152640"/>
            </a:xfrm>
            <a:prstGeom prst="ellipse">
              <a:avLst/>
            </a:prstGeom>
            <a:noFill/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2286000" y="2819520"/>
            <a:ext cx="6324480" cy="2590560"/>
            <a:chOff x="2286000" y="2819520"/>
            <a:chExt cx="6324480" cy="2590560"/>
          </a:xfrm>
        </p:grpSpPr>
        <p:sp>
          <p:nvSpPr>
            <p:cNvPr id="56" name=""/>
            <p:cNvSpPr/>
            <p:nvPr/>
          </p:nvSpPr>
          <p:spPr>
            <a:xfrm flipH="1">
              <a:off x="2286000" y="5105520"/>
              <a:ext cx="6324480" cy="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8382240" y="2819520"/>
              <a:ext cx="0" cy="259056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rot="10800000">
              <a:off x="8306280" y="5029560"/>
              <a:ext cx="151920" cy="152280"/>
            </a:xfrm>
            <a:prstGeom prst="ellipse">
              <a:avLst/>
            </a:prstGeom>
            <a:noFill/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>
            <a:off x="228600" y="638460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</a:rPr>
              <a:t>AP Biology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9.pct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ct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file:///Users/kfoglia/Kim&apos;s%20NEW%20WORK/Division%20Ave%20-%20Levittown/%20Campbell%20CDs/BIOLOGY6eCIPLchapters1-17/ImageLibrary1-17/05-Macromolecules/05-10-Fats.mov" TargetMode="Externa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219320" y="2743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0f116a"/>
                </a:solidFill>
                <a:latin typeface="Arial"/>
              </a:rPr>
              <a:t>Lipids</a:t>
            </a:r>
            <a:endParaRPr b="1" lang="en-US" sz="5600" spc="-1" strike="noStrike">
              <a:solidFill>
                <a:srgbClr val="0f116a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-987" t="0" r="51122" b="48674"/>
          <a:stretch/>
        </p:blipFill>
        <p:spPr>
          <a:xfrm>
            <a:off x="5492880" y="457200"/>
            <a:ext cx="3651120" cy="20160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0" y="309600"/>
            <a:ext cx="1792440" cy="26542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2438280" y="4114800"/>
            <a:ext cx="3962520" cy="24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rcRect l="0" t="0" r="32674" b="11856"/>
          <a:stretch/>
        </p:blipFill>
        <p:spPr>
          <a:xfrm>
            <a:off x="4572000" y="3052800"/>
            <a:ext cx="4522680" cy="372888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Phospholipids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Hydrophobic or hydrophilic?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fatty acid tails = </a:t>
            </a:r>
            <a:r>
              <a:rPr b="1" lang="en-US" sz="2800" spc="-1" strike="noStrike" u="sng">
                <a:solidFill>
                  <a:srgbClr val="40458c"/>
                </a:solidFill>
                <a:uFillTx/>
                <a:latin typeface="Arial"/>
              </a:rPr>
              <a:t>hydrophobic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PO</a:t>
            </a:r>
            <a:r>
              <a:rPr b="1" lang="en-US" sz="2800" spc="-1" strike="noStrike" baseline="-25000">
                <a:solidFill>
                  <a:srgbClr val="40458c"/>
                </a:solidFill>
                <a:latin typeface="Arial"/>
              </a:rPr>
              <a:t>4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 = </a:t>
            </a:r>
            <a:r>
              <a:rPr b="1" lang="en-US" sz="2800" spc="-1" strike="noStrike" u="sng">
                <a:solidFill>
                  <a:srgbClr val="40458c"/>
                </a:solidFill>
                <a:uFillTx/>
                <a:latin typeface="Arial"/>
              </a:rPr>
              <a:t>hydrophilic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 head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dual “personality”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80880" y="4632840"/>
            <a:ext cx="3962520" cy="15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116a"/>
                </a:solidFill>
                <a:latin typeface="Arial"/>
              </a:rPr>
              <a:t>interaction with H</a:t>
            </a:r>
            <a:r>
              <a:rPr b="1" lang="en-US" sz="2800" spc="-1" strike="noStrike" baseline="-25000">
                <a:solidFill>
                  <a:srgbClr val="0f116a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f116a"/>
                </a:solidFill>
                <a:latin typeface="Arial"/>
              </a:rPr>
              <a:t>O is complex</a:t>
            </a:r>
            <a:endParaRPr b="0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116a"/>
                </a:solidFill>
                <a:latin typeface="Arial"/>
              </a:rPr>
              <a:t>&amp; </a:t>
            </a:r>
            <a:r>
              <a:rPr b="1" lang="en-US" sz="2800" spc="-1" strike="noStrike" u="sng">
                <a:solidFill>
                  <a:srgbClr val="0f116a"/>
                </a:solidFill>
                <a:uFillTx/>
                <a:latin typeface="Arial"/>
              </a:rPr>
              <a:t>very important</a:t>
            </a:r>
            <a:r>
              <a:rPr b="1" lang="en-US" sz="2800" spc="-1" strike="noStrike">
                <a:solidFill>
                  <a:srgbClr val="0f116a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Phospholipids in water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Hydrophilic heads attracted to H</a:t>
            </a:r>
            <a:r>
              <a:rPr b="1" lang="en-US" sz="3000" spc="-1" strike="noStrike" baseline="-25000">
                <a:solidFill>
                  <a:srgbClr val="0f116a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O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Hydrophobic tails “hide” from H</a:t>
            </a:r>
            <a:r>
              <a:rPr b="1" lang="en-US" sz="3000" spc="-1" strike="noStrike" baseline="-25000">
                <a:solidFill>
                  <a:srgbClr val="0f116a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O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self-assemble into aggregates 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micelle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liposome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early evolutionary stage of cell?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rcRect l="27489" t="0" r="0" b="52806"/>
          <a:stretch/>
        </p:blipFill>
        <p:spPr>
          <a:xfrm>
            <a:off x="228600" y="4343400"/>
            <a:ext cx="4267080" cy="2446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3" name=""/>
          <p:cNvGraphicFramePr/>
          <p:nvPr/>
        </p:nvGraphicFramePr>
        <p:xfrm>
          <a:off x="4724280" y="4608360"/>
          <a:ext cx="4103640" cy="20210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724280" y="4608360"/>
                    <a:ext cx="4103640" cy="202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Why is this important?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80773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Phospholipids define outside vs. inside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Where do we find phospholipids in cells?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cell membranes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29604" t="57006" r="0" b="8678"/>
          <a:stretch/>
        </p:blipFill>
        <p:spPr>
          <a:xfrm>
            <a:off x="380880" y="3124080"/>
            <a:ext cx="3353040" cy="139536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609480" y="4876920"/>
            <a:ext cx="2210040" cy="18367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3"/>
          <a:stretch/>
        </p:blipFill>
        <p:spPr>
          <a:xfrm>
            <a:off x="3962520" y="2952720"/>
            <a:ext cx="510516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rcRect l="0" t="0" r="0" b="17560"/>
          <a:stretch/>
        </p:blipFill>
        <p:spPr>
          <a:xfrm>
            <a:off x="4343400" y="3192480"/>
            <a:ext cx="4699080" cy="3665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Phospholipids &amp; cells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9250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Phospholipids of cell membrane 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double layer = </a:t>
            </a:r>
            <a:r>
              <a:rPr b="1" lang="en-US" sz="2400" spc="-1" strike="noStrike" u="sng">
                <a:solidFill>
                  <a:srgbClr val="660066"/>
                </a:solidFill>
                <a:uFillTx/>
                <a:latin typeface="Arial"/>
              </a:rPr>
              <a:t>bilayer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40458c"/>
                </a:solidFill>
                <a:uFillTx/>
                <a:latin typeface="Arial"/>
              </a:rPr>
              <a:t>hydrophilic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 heads on outside 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in contact with aqueous solution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40458c"/>
                </a:solidFill>
                <a:uFillTx/>
                <a:latin typeface="Arial"/>
              </a:rPr>
              <a:t>hydrophobic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 tails on inside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form core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forms barrier between cell &amp; </a:t>
            </a:r>
            <a:br>
              <a:rPr sz="2400"/>
            </a:b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external environment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Steroids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ex: cholesterol, sex hormones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4 fused C rings 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different steroids created by attaching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differen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functional groups to rings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5378"/>
          <a:stretch/>
        </p:blipFill>
        <p:spPr>
          <a:xfrm>
            <a:off x="3200400" y="4038480"/>
            <a:ext cx="5753160" cy="260532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2897280" y="4266360"/>
            <a:ext cx="1671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f116a"/>
                </a:solidFill>
                <a:latin typeface="Arial"/>
              </a:rPr>
              <a:t>cholesterol</a:t>
            </a:r>
            <a:endParaRPr b="0" lang="en-US" sz="22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Diversity in steroids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3236760" y="1633680"/>
            <a:ext cx="5830920" cy="499572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152280" y="1860480"/>
            <a:ext cx="3048120" cy="225432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3"/>
          <a:stretch/>
        </p:blipFill>
        <p:spPr>
          <a:xfrm>
            <a:off x="152280" y="4575240"/>
            <a:ext cx="3048120" cy="159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81536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From Cholesterol </a:t>
            </a:r>
            <a:r>
              <a:rPr b="1" lang="en-US" sz="3600" spc="-1" strike="noStrike">
                <a:solidFill>
                  <a:srgbClr val="660066"/>
                </a:solidFill>
                <a:latin typeface="Symbol"/>
                <a:ea typeface="Symbol"/>
              </a:rPr>
              <a:t>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 Sex Hormones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37720" y="1371600"/>
            <a:ext cx="8153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What a big difference a little atom can make!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1676520" y="1981080"/>
            <a:ext cx="60958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holesterol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Important cell component 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animal cell membranes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precursor of all other steroids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including vertebrate sex hormones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high levels in blood may contribute to cardiovascular disease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rcRect l="0" t="0" r="0" b="5378"/>
          <a:stretch/>
        </p:blipFill>
        <p:spPr>
          <a:xfrm>
            <a:off x="228600" y="4703760"/>
            <a:ext cx="4419720" cy="200196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6019920" y="4191120"/>
            <a:ext cx="2971800" cy="25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holesterol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5738760" cy="430380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324480" y="1371600"/>
            <a:ext cx="281952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helps keep cell   </a:t>
            </a:r>
            <a:br>
              <a:rPr sz="2600"/>
            </a:b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   membranes </a:t>
            </a:r>
            <a:br>
              <a:rPr sz="2600"/>
            </a:b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   fluid &amp; flexible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1219320" y="1143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f116a"/>
                </a:solidFill>
                <a:latin typeface="Arial"/>
              </a:rPr>
              <a:t>Let’s build some </a:t>
            </a:r>
            <a:endParaRPr b="1" lang="en-US" sz="3800" spc="-1" strike="noStrike">
              <a:solidFill>
                <a:srgbClr val="0f116a"/>
              </a:solidFill>
              <a:latin typeface="Arial"/>
            </a:endParaRPr>
          </a:p>
          <a:p>
            <a:pPr algn="ctr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0f116a"/>
                </a:solidFill>
                <a:latin typeface="Arial"/>
              </a:rPr>
              <a:t>Lipids!</a:t>
            </a:r>
            <a:endParaRPr b="1" lang="en-US" sz="5600" spc="-1" strike="noStrike">
              <a:solidFill>
                <a:srgbClr val="0f116a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2133720" y="2971800"/>
            <a:ext cx="5002200" cy="37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Lipids 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13716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Lipids are composed of C, H, O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40458c"/>
                </a:solidFill>
                <a:uFillTx/>
                <a:latin typeface="Arial"/>
              </a:rPr>
              <a:t>long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 hydrocarbon chain 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Diverse group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fats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phospholipids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steroids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Do </a:t>
            </a:r>
            <a:r>
              <a:rPr b="1" lang="en-US" sz="3000" spc="-1" strike="noStrike" u="sng">
                <a:solidFill>
                  <a:srgbClr val="660066"/>
                </a:solidFill>
                <a:uFillTx/>
                <a:latin typeface="Arial"/>
              </a:rPr>
              <a:t>not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form polymers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big molecules made of </a:t>
            </a:r>
            <a:br>
              <a:rPr sz="2800"/>
            </a:b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subunit smaller molecules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40458c"/>
                </a:solidFill>
                <a:uFillTx/>
                <a:latin typeface="Arial"/>
              </a:rPr>
              <a:t>not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 a continuing chain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0" t="45600" r="6745" b="7200"/>
          <a:stretch/>
        </p:blipFill>
        <p:spPr>
          <a:xfrm rot="5400000">
            <a:off x="5564520" y="3278880"/>
            <a:ext cx="4465440" cy="253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Fats 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tructure: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glycerol (3C alcohol) + fatty acid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65883"/>
          <a:stretch/>
        </p:blipFill>
        <p:spPr>
          <a:xfrm>
            <a:off x="1600200" y="3429000"/>
            <a:ext cx="6477120" cy="24829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812400" y="5866200"/>
            <a:ext cx="34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dehydration synthesis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24382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lvl="2" marL="971280" indent="-19404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fatty acid = </a:t>
            </a:r>
            <a:r>
              <a:rPr b="1" lang="en-US" sz="2400" spc="-1" strike="noStrike" u="sng">
                <a:solidFill>
                  <a:srgbClr val="0f116a"/>
                </a:solidFill>
                <a:uFillTx/>
                <a:latin typeface="Arial"/>
              </a:rPr>
              <a:t>long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 HC “tail” with COOH group at “head”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Fat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Triacylglycero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3 fatty acids linked to glycerol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ester linkage = between OH &amp; COOH 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rcRect l="0" t="40718" r="8536" b="3420"/>
          <a:stretch/>
        </p:blipFill>
        <p:spPr>
          <a:xfrm>
            <a:off x="1981080" y="2874960"/>
            <a:ext cx="5581800" cy="38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rcRect l="0" t="0" r="0" b="3597"/>
          <a:stretch/>
        </p:blipFill>
        <p:spPr>
          <a:xfrm>
            <a:off x="2209680" y="1295280"/>
            <a:ext cx="4940280" cy="535176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Dehydration synthesis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Fats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Long HC chain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polar or non-polar?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hydrophilic or hydrophobic?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Function: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energy storage 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very rich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2x carbohydrates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cushion organs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insulates body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think whale blubber!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743200" y="1828800"/>
            <a:ext cx="1828800" cy="457200"/>
          </a:xfrm>
          <a:prstGeom prst="ellipse">
            <a:avLst/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429000" y="2286000"/>
            <a:ext cx="2590920" cy="533520"/>
          </a:xfrm>
          <a:prstGeom prst="ellipse">
            <a:avLst/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rcRect l="0" t="45600" r="6745" b="7200"/>
          <a:stretch/>
        </p:blipFill>
        <p:spPr>
          <a:xfrm>
            <a:off x="4678200" y="4317840"/>
            <a:ext cx="4465800" cy="254016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-2520" y="6216120"/>
            <a:ext cx="3589920" cy="642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Let’s go to the video tape!”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f116a"/>
                </a:solidFill>
                <a:latin typeface="Arial"/>
              </a:rPr>
              <a:t>(</a:t>
            </a:r>
            <a:r>
              <a:rPr b="0" lang="en-US" sz="1600" spc="-1" strike="noStrike" u="sng">
                <a:solidFill>
                  <a:srgbClr val="6f89f7"/>
                </a:solidFill>
                <a:uFillTx/>
                <a:latin typeface="Arial"/>
                <a:hlinkClick r:id="rId2"/>
              </a:rPr>
              <a:t>play movie here</a:t>
            </a:r>
            <a:r>
              <a:rPr b="0" lang="en-US" sz="1600" spc="-1" strike="noStrike" u="sng">
                <a:solidFill>
                  <a:srgbClr val="0f116a"/>
                </a:solidFill>
                <a:uFillTx/>
                <a:latin typeface="Arial"/>
              </a:rPr>
              <a:t>)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Saturated fats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All C bonded to H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No C=C double bonds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long, straight chain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most animal fats 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solid at room temp.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contributes to </a:t>
            </a:r>
            <a:br>
              <a:rPr sz="2400"/>
            </a:b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cardiovascular disease </a:t>
            </a:r>
            <a:br>
              <a:rPr sz="2400"/>
            </a:b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(atherosclerosis) </a:t>
            </a:r>
            <a:br>
              <a:rPr sz="2400"/>
            </a:b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= plaque deposits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-954" t="0" r="51131" b="4925"/>
          <a:stretch/>
        </p:blipFill>
        <p:spPr>
          <a:xfrm>
            <a:off x="5495760" y="3048120"/>
            <a:ext cx="364824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Unsaturated fats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=C double bonds in the fatty acids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plant &amp; fish fats 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vegetable oils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liquid at room </a:t>
            </a:r>
            <a:br>
              <a:rPr sz="2800"/>
            </a:b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temperature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the kinks made by </a:t>
            </a:r>
            <a:br>
              <a:rPr sz="2400"/>
            </a:b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double bonded C </a:t>
            </a:r>
            <a:br>
              <a:rPr sz="2400"/>
            </a:b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prevent the molecules </a:t>
            </a:r>
            <a:br>
              <a:rPr sz="2400"/>
            </a:b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from packing tightly</a:t>
            </a:r>
            <a:br>
              <a:rPr sz="2400"/>
            </a:b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together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rcRect l="50824" t="0" r="0" b="4925"/>
          <a:stretch/>
        </p:blipFill>
        <p:spPr>
          <a:xfrm>
            <a:off x="5308560" y="2728800"/>
            <a:ext cx="3835440" cy="39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Phospholipids 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3152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tructure: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glycerol + 2 fatty acids + PO</a:t>
            </a:r>
            <a:r>
              <a:rPr b="1" lang="en-US" sz="2800" spc="-1" strike="noStrike" baseline="-25000">
                <a:solidFill>
                  <a:srgbClr val="40458c"/>
                </a:solidFill>
                <a:latin typeface="Arial"/>
              </a:rPr>
              <a:t>4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PO</a:t>
            </a:r>
            <a:r>
              <a:rPr b="1" lang="en-US" sz="2400" spc="-1" strike="noStrike" baseline="-25000">
                <a:solidFill>
                  <a:srgbClr val="0f116a"/>
                </a:solidFill>
                <a:latin typeface="Arial"/>
              </a:rPr>
              <a:t>4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 negatively </a:t>
            </a:r>
            <a:br>
              <a:rPr sz="2400"/>
            </a:b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charged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other small </a:t>
            </a:r>
            <a:br>
              <a:rPr sz="2400"/>
            </a:b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molecules may </a:t>
            </a:r>
            <a:br>
              <a:rPr sz="2400"/>
            </a:b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also be attached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adenine (ATP)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32404" b="5714"/>
          <a:stretch/>
        </p:blipFill>
        <p:spPr>
          <a:xfrm>
            <a:off x="4218120" y="2521080"/>
            <a:ext cx="4849560" cy="42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20:13:53Z</dcterms:created>
  <dc:creator>Kim B. Foglia</dc:creator>
  <dc:description>All Rights Reserved. Copyright 2003. WD Interactive.</dc:description>
  <cp:keywords>WD Interactive Web Development</cp:keywords>
  <dc:language>en-US</dc:language>
  <cp:lastModifiedBy>Kim Foglia</cp:lastModifiedBy>
  <cp:lastPrinted>2005-09-16T02:37:27Z</cp:lastPrinted>
  <dcterms:modified xsi:type="dcterms:W3CDTF">2005-09-16T02:55:21Z</dcterms:modified>
  <cp:revision>469</cp:revision>
  <dc:subject>Introduction to the Internet &amp; Web sites</dc:subject>
  <dc:title>Small Business Success on the Web</dc:title>
</cp:coreProperties>
</file>